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0.jpeg" ContentType="image/jpeg"/>
  <Override PartName="/ppt/media/image30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24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9.png" ContentType="image/png"/>
  <Override PartName="/ppt/media/image22.jpeg" ContentType="image/jpeg"/>
  <Override PartName="/ppt/media/image12.png" ContentType="image/png"/>
  <Override PartName="/ppt/media/image23.jpeg" ContentType="image/jpeg"/>
  <Override PartName="/ppt/media/image2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890C-7D45-498A-8D60-CCC1B0104B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345A-F71D-4551-8995-18FE3DD4E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27BF-3886-4FB8-AEC4-92CBA23733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512E-4CE1-45C2-9252-003AC3D4BD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40CF-33F2-4837-8CAD-B4BFA2E2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B68D-3638-44D6-A8DC-1CD9E909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2922-39F6-4632-A741-84EC6061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A9C0-DA23-449F-AF84-BE3E7418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B9E8-DAFD-4ED7-A6D3-FFD5E38D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4AF0-7F76-42C1-9922-C231ADAF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CC2D-EDF0-407B-A54F-785ED2EB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49A7-81C5-4120-9118-83CF6DF0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D2D6-C81C-4089-BB8A-B9AC0E3F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BF6B-4C95-4D36-81EF-8312360E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2FEC-2365-446B-AE36-FD4543DE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DF0F-5C3E-452F-8075-6612D05C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8DD8-3178-4658-A6F9-40DD912D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E996-8B85-435A-94C2-BAFF8D3D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6493-5B28-43A2-A32B-8CA0DFA5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422A-79E3-4AD1-A207-D07C11A4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33BE-2A75-494A-9846-A756EE93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98F92-C75F-4D97-98B9-13C07C879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395C7-7324-4C03-8D95-04F32515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61B72-E80E-4E3B-9CA9-DA823714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3017A-DE91-4646-9929-E51C19F1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8A90A-60BD-4DBB-B28A-68B5CA4A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BE0F-D027-485E-9D0C-89F86DEE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F9FD4-01DB-4695-866E-7A44CD67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4508F-EC25-440E-A7F3-961F8365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EECC7-F92B-4F6F-BDF2-D10FE315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68AB7-B3C6-43A3-9E4A-C64192B7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BF5E2-85C1-4441-A082-ED22D637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71988-C2D2-4132-985C-FF71B01C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74573-7CAC-4953-8178-326B7D68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DC04A-6576-45D2-B8CA-DF82A370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4A613-CBFA-40B8-9367-F5CABE98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9B6DD-4632-4FBC-804E-A0714E30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6DB5-D675-47E9-9BD9-DB3362B1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035CB-B0F7-437D-A0A8-8EAEC473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39C14-7259-424E-AB29-2126EDE6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C7BB1-F673-4B1E-A540-438B849E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A5070-F0E6-43D6-BA25-AB4A7CF6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CA5DD-55FE-42B8-B2F2-A7BDBAB2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16BF2-03F5-4EAE-88B7-70FBCDAC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47ABD-DD7D-4149-A838-7AF1EFD7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49E46-3025-4C03-9E0F-1F526D5C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58555-990C-482A-A61B-E82BE9F5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018D2-188B-42CF-9EB2-F7B40158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CCCA-FEE8-462A-A56E-559DA724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EED99-7AE0-48A6-99B0-1DE6395C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4EFFF-1D49-430D-8B71-1BD88087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1E4DF-3C5F-4427-8F52-1A7DB3B1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B9565-B150-45CB-9544-103E7582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E2A91-DF3E-47C9-A314-8288605C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A802C-EAAF-489D-A7E0-44C50873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58B08-2770-4414-A89B-A9401B36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A64AC-92D2-46AD-B453-EE5290DB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94C41-A698-48A6-9356-C3817E59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A2AEF-7C8B-4BA4-A902-034C27D9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E78D-5849-484C-A2B1-0723A490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D1A3A-E70D-4DB7-B7BF-7A5DE9F3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1EFE2-0D14-4EE4-A2DF-00D05581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09580-19A6-4B9A-B0DF-6D7DABB4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252DC-0B03-4125-96B0-63B881A1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8D6AC-2055-4CB3-96B3-ECA75028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94697-0D02-41EA-8228-BC64B763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D659C-FABD-40DA-BFE7-54527B3B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BD05D-16B4-4402-A987-2A3E53C3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053CC-28D3-4FE7-A6DD-A80136EF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3796D-A8B2-4A53-989A-11312107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CBF5-4260-4A6E-A100-A2B4B6F1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9CB41-1DEF-4E10-B7B6-F39A3FF0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0BD95-F2EC-413E-92B1-FE328FFD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AA07F-B623-4830-BD36-C8136C3A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D6845-92AF-41E3-AF14-A502E800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5DD78-C8F9-4852-8CA8-D6A9B2A0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FB462-9CBF-4487-A8A0-9B27F405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5BC06-1BF7-488C-809E-915FC939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43FF2-BA33-46F8-B63F-D2E6DFC6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C3365-F00E-4AED-B6C1-E6F891D0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735A4-C836-493C-BCE2-C827F9EC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7BAE-EEF7-479E-A881-507C8143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C65B5-30DC-4CC6-A64F-E1872F06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42275-D61B-48C7-B4A5-E1607748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C847D-DC37-4F59-976A-C13C32E7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94144-C963-47A3-A13A-1B720877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CADC1-07DC-4182-9A90-58CD9FA8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E694E-8346-4E48-98A4-8EECAB63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05743-CF7B-4280-BDFA-BD4D693C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48B22-95D0-4037-BA8E-C04A402E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D7987-254D-4537-B575-A57568D3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94A90-C193-4236-AA13-BB23ACE8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AF3C-D418-42D5-8860-7360FDEB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257AF-87AF-4B93-8BD0-E57A9960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CAC2E-93B0-48D1-809E-211F6311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3702F-C4CB-46B3-BE30-C70A8B07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CF570-C309-4BBD-B8CD-50D5F703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F676A-65A2-4936-A8AC-DB52F45B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E72A4-13D2-4E62-BE96-EE00125C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79712-54CB-4642-9D30-3DE303A6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B712-F7F4-4521-B111-BA3A8639346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0CFB-7D4D-4A7A-88A8-0F199C40691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85F8-55A1-4C3B-B0D5-3728539A6DB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CA6F-2B93-45AE-B134-B490A541310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DAE9-465C-4619-A076-B148DAC4288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F973-03DF-41ED-B741-7B06F677289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65C3-C9F6-472D-AC1C-5BA602B22AD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C4BC-0AE3-4DEB-8865-0F4DAF8F416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Timor_ppt_bkg_printing"/>
          <p:cNvPicPr/>
          <p:nvPr/>
        </p:nvPicPr>
        <p:blipFill>
          <a:blip r:embed="rId1"/>
          <a:stretch/>
        </p:blipFill>
        <p:spPr>
          <a:xfrm>
            <a:off x="838080" y="2209680"/>
            <a:ext cx="7543800" cy="3732480"/>
          </a:xfrm>
          <a:prstGeom prst="rect">
            <a:avLst/>
          </a:prstGeom>
          <a:ln w="0">
            <a:noFill/>
          </a:ln>
        </p:spPr>
      </p:pic>
      <p:pic>
        <p:nvPicPr>
          <p:cNvPr id="378" name="Subtitle 2" descr=""/>
          <p:cNvPicPr/>
          <p:nvPr/>
        </p:nvPicPr>
        <p:blipFill>
          <a:blip r:embed="rId2"/>
          <a:stretch/>
        </p:blipFill>
        <p:spPr>
          <a:xfrm>
            <a:off x="-55440" y="0"/>
            <a:ext cx="4494240" cy="554040"/>
          </a:xfrm>
          <a:prstGeom prst="rect">
            <a:avLst/>
          </a:prstGeom>
          <a:ln w="0">
            <a:noFill/>
          </a:ln>
        </p:spPr>
      </p:pic>
      <p:sp>
        <p:nvSpPr>
          <p:cNvPr id="379" name="Title 1"/>
          <p:cNvSpPr/>
          <p:nvPr/>
        </p:nvSpPr>
        <p:spPr>
          <a:xfrm>
            <a:off x="609480" y="1447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COUNTRY REPO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2936160" y="2666880"/>
            <a:ext cx="32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Jakart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.Sep,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20</a:t>
            </a:r>
            <a:r>
              <a:rPr b="0" lang="id-ID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Rectangle 6"/>
          <p:cNvGrpSpPr/>
          <p:nvPr/>
        </p:nvGrpSpPr>
        <p:grpSpPr>
          <a:xfrm>
            <a:off x="731880" y="4638600"/>
            <a:ext cx="8040600" cy="1841400"/>
            <a:chOff x="731880" y="4638600"/>
            <a:chExt cx="8040600" cy="1841400"/>
          </a:xfrm>
        </p:grpSpPr>
        <p:pic>
          <p:nvPicPr>
            <p:cNvPr id="382" name="Rectangle 6" descr=""/>
            <p:cNvPicPr/>
            <p:nvPr/>
          </p:nvPicPr>
          <p:blipFill>
            <a:blip r:embed="rId3"/>
            <a:stretch/>
          </p:blipFill>
          <p:spPr>
            <a:xfrm>
              <a:off x="731880" y="4638600"/>
              <a:ext cx="804060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838080" y="4800600"/>
              <a:ext cx="77724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Lucida Sans Unicode"/>
                </a:rPr>
                <a:t>National Directorate of Meteorology and Geophysics of  Timor-Leste (DNMG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560" y="148104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MG Collected Data from 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52-1974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ortuguese time)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 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MG established DNM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gan collecting data in 2003 until now and the data DNMG takes is rainfall (monthly data), but data for now is only data from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ucau 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ct 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Dili. The data for Oe-cusse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strict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e start taking in 2015 because of new tools installed in 2015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1"/>
          <p:cNvSpPr/>
          <p:nvPr/>
        </p:nvSpPr>
        <p:spPr>
          <a:xfrm>
            <a:off x="152280" y="1522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70c0"/>
                </a:solidFill>
                <a:latin typeface="Lucida Sans Unicode"/>
              </a:rPr>
              <a:t>Examples of weather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304920" y="733320"/>
            <a:ext cx="83818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Lucida Sans Unicode"/>
              </a:rPr>
              <a:t>BOM: Forecast - Timor Leste (NT) [SEC=UNCLASSIFIED] (1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DD10170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Australian Government Bureau of Meteorology 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Northern Territory</a:t>
            </a:r>
            <a:br>
              <a:rPr sz="1400"/>
            </a:b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Timor Leste Weather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Issued at 1645 on Thursday the 10th of September 2015</a:t>
            </a:r>
            <a:br>
              <a:rPr sz="1400"/>
            </a:b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Forecast for tonight and Friday: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Partly cloudy, clearing this evening. Mostly sunny tomorrow apart from some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cloud about the ranges and southern coast. Light to moderate east to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southeasterly winds, with moderate seabreezes from mid-morning.</a:t>
            </a:r>
            <a:br>
              <a:rPr sz="1400"/>
            </a:b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Dili: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Partly cloudy, clearing this evening. Mostly sunny tomorrow. Light southeasterly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winds before a moderate northeasterly sea breeze from mid-morning.</a:t>
            </a:r>
            <a:br>
              <a:rPr sz="1400"/>
            </a:b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Min: 21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Max: 30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Outlook for the next two days: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The chance of isolated afternoon showers on and south of the ranges. Mostly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sunny elsewhere. Winds tending moderate east to southeasterly, with moderate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mid-morning sea breez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IDW20840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Australian Government Bureau of Meteorology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Western Australia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Perth Regional Forecasting Centr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Need add more staff with high capacit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Improve capacity with the training in area Forecasting, observation, instrument calibrating, models, etc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Stablish new Headquarter with the modern system for the Meteorology, Climatology and Geophysic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Stablish new AWS in other Municipal (at list 12 mor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Content Placeholder 2"/>
          <p:cNvSpPr/>
          <p:nvPr/>
        </p:nvSpPr>
        <p:spPr>
          <a:xfrm>
            <a:off x="228600" y="762120"/>
            <a:ext cx="8458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b0f0"/>
                </a:solidFill>
                <a:latin typeface="Lucida Sans Unicode"/>
              </a:rPr>
              <a:t>Support and Cooperation Partners country in Application Data Information with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Lucida Sans Unicode"/>
              </a:rPr>
              <a:t>BoM       Provide forecast for Aviation and Tropical Cyclone adversar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Lucida Sans Unicode"/>
              </a:rPr>
              <a:t>RIMES       Provide three days forecast and Earthquake and Tsunami inform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Lucida Sans Unicode"/>
              </a:rPr>
              <a:t>JMA        Provide Satellite Imagery (SATAI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Lucida Sans Unicode"/>
              </a:rPr>
              <a:t>BMKG        on going process signing MOU to provide technical assistant for training and calibration instrumen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overnment instances: Agriculture, Water Resources, Mineral Resources and NGO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ight Arrow 3"/>
          <p:cNvSpPr/>
          <p:nvPr/>
        </p:nvSpPr>
        <p:spPr>
          <a:xfrm flipV="1">
            <a:off x="1368360" y="1539720"/>
            <a:ext cx="4572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ight Arrow 5"/>
          <p:cNvSpPr/>
          <p:nvPr/>
        </p:nvSpPr>
        <p:spPr>
          <a:xfrm flipV="1">
            <a:off x="1554120" y="2209680"/>
            <a:ext cx="4572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ight Arrow 6"/>
          <p:cNvSpPr/>
          <p:nvPr/>
        </p:nvSpPr>
        <p:spPr>
          <a:xfrm flipV="1">
            <a:off x="1387440" y="2895480"/>
            <a:ext cx="4572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ight Arrow 7"/>
          <p:cNvSpPr/>
          <p:nvPr/>
        </p:nvSpPr>
        <p:spPr>
          <a:xfrm flipV="1">
            <a:off x="1593720" y="3352680"/>
            <a:ext cx="4572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le 2" descr=""/>
          <p:cNvPicPr/>
          <p:nvPr/>
        </p:nvPicPr>
        <p:blipFill>
          <a:blip r:embed="rId1"/>
          <a:stretch/>
        </p:blipFill>
        <p:spPr>
          <a:xfrm>
            <a:off x="-237960" y="268200"/>
            <a:ext cx="893124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3" descr=""/>
          <p:cNvPicPr/>
          <p:nvPr/>
        </p:nvPicPr>
        <p:blipFill>
          <a:blip r:embed="rId1"/>
          <a:stretch/>
        </p:blipFill>
        <p:spPr>
          <a:xfrm>
            <a:off x="603360" y="195120"/>
            <a:ext cx="8138880" cy="1116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D:\meteo_contry_report\20090504181022!Diplomatic_missions_in_Timor-Leste.png"/>
          <p:cNvPicPr/>
          <p:nvPr/>
        </p:nvPicPr>
        <p:blipFill>
          <a:blip r:embed="rId2"/>
          <a:stretch/>
        </p:blipFill>
        <p:spPr>
          <a:xfrm>
            <a:off x="378000" y="1596960"/>
            <a:ext cx="8467560" cy="5267520"/>
          </a:xfrm>
          <a:prstGeom prst="rect">
            <a:avLst/>
          </a:prstGeom>
          <a:ln w="0">
            <a:noFill/>
          </a:ln>
        </p:spPr>
      </p:pic>
      <p:sp>
        <p:nvSpPr>
          <p:cNvPr id="386" name="Down Arrow 5"/>
          <p:cNvSpPr/>
          <p:nvPr/>
        </p:nvSpPr>
        <p:spPr>
          <a:xfrm>
            <a:off x="7238880" y="4038480"/>
            <a:ext cx="76320" cy="914400"/>
          </a:xfrm>
          <a:prstGeom prst="downArrow">
            <a:avLst>
              <a:gd name="adj1" fmla="val 50000"/>
              <a:gd name="adj2" fmla="val 5219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3" descr="areamap"/>
          <p:cNvPicPr/>
          <p:nvPr/>
        </p:nvPicPr>
        <p:blipFill>
          <a:blip r:embed="rId3"/>
          <a:stretch/>
        </p:blipFill>
        <p:spPr>
          <a:xfrm>
            <a:off x="987480" y="3803760"/>
            <a:ext cx="3895560" cy="261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6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Democratic Republic of Timor-Leste 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9" name="Down Arrow 5"/>
          <p:cNvSpPr/>
          <p:nvPr/>
        </p:nvSpPr>
        <p:spPr>
          <a:xfrm>
            <a:off x="7315200" y="3124080"/>
            <a:ext cx="76320" cy="914400"/>
          </a:xfrm>
          <a:prstGeom prst="downArrow">
            <a:avLst>
              <a:gd name="adj1" fmla="val 50000"/>
              <a:gd name="adj2" fmla="val 5219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D:\meteo_contry_report\timor.gif"/>
          <p:cNvPicPr/>
          <p:nvPr/>
        </p:nvPicPr>
        <p:blipFill>
          <a:blip r:embed="rId1"/>
          <a:stretch/>
        </p:blipFill>
        <p:spPr>
          <a:xfrm>
            <a:off x="103320" y="212760"/>
            <a:ext cx="8613720" cy="6669000"/>
          </a:xfrm>
          <a:prstGeom prst="rect">
            <a:avLst/>
          </a:prstGeom>
          <a:ln w="0">
            <a:noFill/>
          </a:ln>
        </p:spPr>
      </p:pic>
      <p:pic>
        <p:nvPicPr>
          <p:cNvPr id="391" name="Rectangle 6" descr=""/>
          <p:cNvPicPr/>
          <p:nvPr/>
        </p:nvPicPr>
        <p:blipFill>
          <a:blip r:embed="rId2"/>
          <a:stretch/>
        </p:blipFill>
        <p:spPr>
          <a:xfrm>
            <a:off x="228600" y="504720"/>
            <a:ext cx="2514600" cy="277200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sp>
        <p:nvSpPr>
          <p:cNvPr id="392" name="Rectangle 3"/>
          <p:cNvSpPr/>
          <p:nvPr/>
        </p:nvSpPr>
        <p:spPr>
          <a:xfrm>
            <a:off x="-1409760" y="63180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Rectangle 9" descr=""/>
          <p:cNvPicPr/>
          <p:nvPr/>
        </p:nvPicPr>
        <p:blipFill>
          <a:blip r:embed="rId3"/>
          <a:stretch/>
        </p:blipFill>
        <p:spPr>
          <a:xfrm>
            <a:off x="5943600" y="2292480"/>
            <a:ext cx="321948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NMG established early 2003  under the ministry of Infrastructur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ince the referendum held on September 1999 all Meteorology Services were destroyed in Dili Capital and other districts in Timor-Leste. During the UNTAET period in Timor-Leste meteorology service were provided by Bureau of Meteorology Australia (BoM) in Darwin (just for aviation up to date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NMG become member of  WMO on 4 December 2009 (</a:t>
            </a:r>
            <a:r>
              <a:rPr b="0" lang="id-ID" sz="23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89 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Current</a:t>
            </a:r>
            <a:r>
              <a:rPr b="0" lang="id-ID" sz="2300" spc="-1" strike="noStrike">
                <a:solidFill>
                  <a:srgbClr val="000000"/>
                </a:solidFill>
                <a:latin typeface="Lucida Sans Unicode"/>
              </a:rPr>
              <a:t>ly</a:t>
            </a: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, DNMG office in DILI, under the Ministry of Public Work</a:t>
            </a:r>
            <a:r>
              <a:rPr b="0" lang="id-ID" sz="23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, Transport and Communicatio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With 2</a:t>
            </a:r>
            <a:r>
              <a:rPr b="0" lang="id-ID" sz="23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 staff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4" descr="DSC02264"/>
          <p:cNvPicPr/>
          <p:nvPr/>
        </p:nvPicPr>
        <p:blipFill>
          <a:blip r:embed="rId1"/>
          <a:stretch/>
        </p:blipFill>
        <p:spPr>
          <a:xfrm>
            <a:off x="4572000" y="4191120"/>
            <a:ext cx="4343400" cy="26668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6"/>
          <p:cNvSpPr/>
          <p:nvPr/>
        </p:nvSpPr>
        <p:spPr>
          <a:xfrm>
            <a:off x="228600" y="0"/>
            <a:ext cx="3886200" cy="3049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Facilities Infrastructure of DNM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8" descr="DSC02276"/>
          <p:cNvPicPr/>
          <p:nvPr/>
        </p:nvPicPr>
        <p:blipFill>
          <a:blip r:embed="rId2"/>
          <a:stretch/>
        </p:blipFill>
        <p:spPr>
          <a:xfrm>
            <a:off x="5791320" y="152388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100_5752"/>
          <p:cNvPicPr/>
          <p:nvPr/>
        </p:nvPicPr>
        <p:blipFill>
          <a:blip r:embed="rId3"/>
          <a:stretch/>
        </p:blipFill>
        <p:spPr>
          <a:xfrm>
            <a:off x="0" y="4172040"/>
            <a:ext cx="4267080" cy="26859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"/>
          <p:cNvPicPr/>
          <p:nvPr/>
        </p:nvPicPr>
        <p:blipFill>
          <a:blip r:embed="rId4"/>
          <a:stretch/>
        </p:blipFill>
        <p:spPr>
          <a:xfrm>
            <a:off x="0" y="1600200"/>
            <a:ext cx="5791320" cy="28954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3" descr="DSC02288"/>
          <p:cNvPicPr/>
          <p:nvPr/>
        </p:nvPicPr>
        <p:blipFill>
          <a:blip r:embed="rId5"/>
          <a:stretch/>
        </p:blipFill>
        <p:spPr>
          <a:xfrm>
            <a:off x="4884840" y="4314960"/>
            <a:ext cx="3517920" cy="2638440"/>
          </a:xfrm>
          <a:prstGeom prst="rect">
            <a:avLst/>
          </a:prstGeom>
          <a:ln w="0">
            <a:noFill/>
          </a:ln>
        </p:spPr>
      </p:pic>
      <p:sp>
        <p:nvSpPr>
          <p:cNvPr id="402" name="TextBox 8"/>
          <p:cNvSpPr/>
          <p:nvPr/>
        </p:nvSpPr>
        <p:spPr>
          <a:xfrm>
            <a:off x="609480" y="380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Times New Roman"/>
              </a:rPr>
              <a:t>2 Automatic Weather Statio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2 synoptic s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nual Weather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Times New Roman"/>
              </a:rPr>
              <a:t>CliDe System for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"/>
          <p:cNvSpPr/>
          <p:nvPr/>
        </p:nvSpPr>
        <p:spPr>
          <a:xfrm>
            <a:off x="304920" y="0"/>
            <a:ext cx="464796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spcBef>
                <a:spcPts val="1800"/>
              </a:spcBef>
              <a:buClr>
                <a:srgbClr val="ff8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DNMG </a:t>
            </a:r>
            <a:r>
              <a:rPr b="1" lang="id-ID" sz="2800" spc="-1" strike="noStrike">
                <a:solidFill>
                  <a:srgbClr val="000000"/>
                </a:solidFill>
                <a:latin typeface="Lucida Sans Unicode"/>
              </a:rPr>
              <a:t>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Observation and monitor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2"/>
          <p:cNvSpPr/>
          <p:nvPr/>
        </p:nvSpPr>
        <p:spPr>
          <a:xfrm>
            <a:off x="609480" y="10666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ucida Sans Unicode"/>
              </a:rPr>
              <a:t>Collected data from AWS and Manual 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4" descr="C:\Users\Main User\Pictures\Foto Act Servico DNMG 2008\Actividade Obs1.JPG"/>
          <p:cNvPicPr/>
          <p:nvPr/>
        </p:nvPicPr>
        <p:blipFill>
          <a:blip r:embed="rId1"/>
          <a:stretch/>
        </p:blipFill>
        <p:spPr>
          <a:xfrm>
            <a:off x="6400800" y="60948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Main User\Pictures\Foto Act Servico DNMG 2008\AWS.JPG"/>
          <p:cNvPicPr/>
          <p:nvPr/>
        </p:nvPicPr>
        <p:blipFill>
          <a:blip r:embed="rId2"/>
          <a:stretch/>
        </p:blipFill>
        <p:spPr>
          <a:xfrm>
            <a:off x="6400800" y="2514600"/>
            <a:ext cx="2371680" cy="1779480"/>
          </a:xfrm>
          <a:prstGeom prst="rect">
            <a:avLst/>
          </a:prstGeom>
          <a:ln w="0">
            <a:noFill/>
          </a:ln>
        </p:spPr>
      </p:pic>
      <p:sp>
        <p:nvSpPr>
          <p:cNvPr id="407" name="Right Arrow 3"/>
          <p:cNvSpPr/>
          <p:nvPr/>
        </p:nvSpPr>
        <p:spPr>
          <a:xfrm>
            <a:off x="2286000" y="16765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6"/>
          <p:cNvSpPr/>
          <p:nvPr/>
        </p:nvSpPr>
        <p:spPr>
          <a:xfrm>
            <a:off x="3124080" y="1676520"/>
            <a:ext cx="19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ucida Sans Unicode"/>
              </a:rPr>
              <a:t>Entry to Dat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" descr="C:\Users\Main User\Pictures\Foto Act Servico DNMG 2008\Act. weather forecaster2.JPG"/>
          <p:cNvPicPr/>
          <p:nvPr/>
        </p:nvPicPr>
        <p:blipFill>
          <a:blip r:embed="rId3"/>
          <a:stretch/>
        </p:blipFill>
        <p:spPr>
          <a:xfrm>
            <a:off x="609480" y="2247840"/>
            <a:ext cx="5131080" cy="384804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6705720" y="5105520"/>
            <a:ext cx="18288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ucida Sans Unicode"/>
              </a:rPr>
              <a:t>Analysis of RIMES NWP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Elbow Connector 9"/>
          <p:cNvCxnSpPr/>
          <p:nvPr/>
        </p:nvCxnSpPr>
        <p:spPr>
          <a:xfrm>
            <a:off x="5737320" y="4952520"/>
            <a:ext cx="892800" cy="477000"/>
          </a:xfrm>
          <a:prstGeom prst="bentConnector3">
            <a:avLst>
              <a:gd name="adj1" fmla="val 49979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Lucida Sans Unicode"/>
              </a:rPr>
              <a:t>For </a:t>
            </a:r>
            <a:r>
              <a:rPr b="0" lang="en-AU" sz="2800" spc="-1" strike="noStrike">
                <a:solidFill>
                  <a:srgbClr val="ffffff"/>
                </a:solidFill>
                <a:latin typeface="Lucida Sans Unicode"/>
              </a:rPr>
              <a:t>Hydrology there are </a:t>
            </a:r>
            <a:r>
              <a:rPr b="0" lang="id-ID" sz="2800" spc="-1" strike="noStrike">
                <a:solidFill>
                  <a:srgbClr val="ffffff"/>
                </a:solidFill>
                <a:latin typeface="Lucida Sans Unicode"/>
              </a:rPr>
              <a:t>7th</a:t>
            </a:r>
            <a:r>
              <a:rPr b="0" lang="en-AU" sz="2800" spc="-1" strike="noStrike">
                <a:solidFill>
                  <a:srgbClr val="ffffff"/>
                </a:solidFill>
                <a:latin typeface="Lucida Sans Unicode"/>
              </a:rPr>
              <a:t> automatic and manual weather station and 14 water level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Lucida Sans Unicode"/>
              </a:rPr>
              <a:t>Hydrology there are five water level monitoring stations in Dili </a:t>
            </a:r>
            <a:r>
              <a:rPr b="0" lang="id-ID" sz="2800" spc="-1" strike="noStrike">
                <a:solidFill>
                  <a:srgbClr val="ffffff"/>
                </a:solidFill>
                <a:latin typeface="Lucida Sans Unicode"/>
              </a:rPr>
              <a:t>a</a:t>
            </a:r>
            <a:r>
              <a:rPr b="0" lang="en-AU" sz="2800" spc="-1" strike="noStrike">
                <a:solidFill>
                  <a:srgbClr val="ffffff"/>
                </a:solidFill>
                <a:latin typeface="Lucida Sans Unicode"/>
              </a:rPr>
              <a:t>nd currently Hydrology can only collect data and not yet able to provide information to the public</a:t>
            </a:r>
            <a:r>
              <a:rPr b="0" lang="id-ID" sz="2800" spc="-1" strike="noStrike">
                <a:solidFill>
                  <a:srgbClr val="ffffff"/>
                </a:solidFill>
                <a:latin typeface="Lucida Sans Unicode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3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3" descr=""/>
          <p:cNvPicPr/>
          <p:nvPr/>
        </p:nvPicPr>
        <p:blipFill>
          <a:blip r:embed="rId1"/>
          <a:stretch/>
        </p:blipFill>
        <p:spPr>
          <a:xfrm>
            <a:off x="244440" y="165240"/>
            <a:ext cx="8491680" cy="1298520"/>
          </a:xfrm>
          <a:prstGeom prst="rect">
            <a:avLst/>
          </a:prstGeom>
          <a:ln w="0">
            <a:noFill/>
          </a:ln>
        </p:spPr>
      </p:pic>
      <p:pic>
        <p:nvPicPr>
          <p:cNvPr id="418" name="Content Placeholder 4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8381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4T05:40:20Z</dcterms:created>
  <dc:creator>admin</dc:creator>
  <dc:description/>
  <dc:language>en-US</dc:language>
  <cp:lastModifiedBy>USER</cp:lastModifiedBy>
  <dcterms:modified xsi:type="dcterms:W3CDTF">2018-09-18T06:10:36Z</dcterms:modified>
  <cp:revision>69</cp:revision>
  <dc:subject/>
  <dc:title>COUNTRY REPORT</dc:title>
</cp:coreProperties>
</file>